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265-DA66-46AD-BE1D-F37F3C38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C9B-17F7-45CF-B19E-30A5EB7E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E12-71C8-4B06-AA56-F9CE83C4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067-D5E5-4891-9BD6-15B0BE9D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376-1892-4F69-A652-CC998510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9E5-6147-41CE-902F-B7058E20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6B4-6ABC-4E02-BA69-79AE273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B3B-A583-4E88-91AC-140DCBD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3A7-3E30-4292-8D44-23D51C0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457-F387-4F2F-9F53-8F7869A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C31-0FE6-42E7-9827-0403416C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D0D-B21A-42CD-9DBB-55D404A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2C8-FD03-472B-8946-D60D6C45A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о - правовое обеспеч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444444"/>
                </a:solidFill>
                <a:latin typeface="Times New Roman"/>
              </a:rPr>
              <a:t>Федеральный Закон от 29.12.2012 №273-ФЗ 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сентября 2013 года определяет </a:t>
            </a:r>
            <a:r>
              <a:rPr b="0" lang="ru-RU" sz="3200" spc="-1" strike="noStrike">
                <a:solidFill>
                  <a:srgbClr val="444444"/>
                </a:solidFill>
                <a:latin typeface="Times New Roman"/>
              </a:rPr>
              <a:t>дошкольное образование одним из уровней общего образования, в  связи с чем, государство гарантирует равенство возможностей для каждого ребёнка (доступность) в получении качественного  дошкольного образования на этой сту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рмативно - правовое обеспе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оссийской Федерации от 17 октября 2013 г. №115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федерального государственного образовательного стандарта дошкольного образован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егистрирован в Минюсте Росс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11.2013 №3038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ает в силу с 1 января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ФГОС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ГОС  дошколь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- это совокупность обязательных требований к дошкольному образ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метом регулирования стандарта являются отношения в сфере образования, возникающие при реализации образовательной программы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и станда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социального статуса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 государством равенства возможностей для каждого ребёнка в получении качественного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государственных гарантий уровня и качества дошкольного образования на основе единых обязательных требований к условиям реализации программ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хранение единства образовательного пространства РФ относительно уровня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ПРИНЦИ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дошкольного образ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915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оценное проживание ребёнком всех этапов детства, обогащение  (амплификация) детского развит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изация дошко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йствие и сотрудничество детей и взрослых, признание ребенка полноценным участником (субъектом) образовательных отнош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инициативы дете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ПРИНЦИП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дошкольного образ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рудничество с семьё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детей к социокультурным нормам; традициям семьи, общества и госу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ых интересов и познавательных действий ребенка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ная адекватность дошкольного образования (соответствие условий, требований, методов возрасту  и особенностям развит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●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этнокультурной ситуации развити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БОВАНИЯ К УСЛОВИЯМ РЕАЛИЗАЦИИ ПРОГРАМ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м усло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ации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ей предметно-пространствен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дровым усло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ации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ально-техническим усло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ации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нансовым усло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ации основ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3:02:16Z</dcterms:created>
  <dc:creator>kil</dc:creator>
  <dc:description/>
  <dc:language>en-US</dc:language>
  <cp:lastModifiedBy>Татьяна Григорьевна</cp:lastModifiedBy>
  <dcterms:modified xsi:type="dcterms:W3CDTF">2014-04-01T02:08:22Z</dcterms:modified>
  <cp:revision>52</cp:revision>
  <dc:subject/>
  <dc:title>ФЕДЕРАЛЬНЫЙ ГОСУДАРСТВЕННЫЙ ОБРАЗОВАТЕЛЬНЫЙ СТАНДАРТ ДОШКОЛЬНОГО ОБРАЗОВАНИЯ</dc:title>
</cp:coreProperties>
</file>